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EA109-E2C6-4D14-8BDE-6F40922B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8A26-E5AB-4FDD-9CA7-59C0C29F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DDEC3-D846-4137-AFC7-ACCC9661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284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528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040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284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528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869F-F88B-4784-8D20-7BAF0D40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91E2-E33B-46EF-902F-B3617839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8E46-3FDD-4581-9658-07281DEB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6F9E-2F29-4E85-A475-AC255184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52DC-975E-4225-A6FB-61CB97BB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E40A-52B7-43C2-86FD-F15E1191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115920"/>
            <a:ext cx="6697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DE2D-40DD-4E05-996B-2EAF645F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0400-9126-43C0-AE24-CD2F5DCE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F49F-7FD7-410F-B069-5714636D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87EA-41FB-4627-B6D9-1B8000E8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A32A-3EEB-4679-9EB0-D5C23FA6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E04E-2BC4-4C16-AE27-62554580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5F4B-4532-4E34-A5C9-88ACEDE0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284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528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040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284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528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915D-6D69-4E6F-9C75-99F8F0FE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8E8C-8C5D-494E-8C44-E3C6B6A2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34DB-A0E9-4316-8643-4D91C4E1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3A60-89E8-4405-85F0-5EDF6A1E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115920"/>
            <a:ext cx="6697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0704-CDC0-4897-9C1B-797EF72B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2A78-D0D0-420E-8CDF-27A34AB3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B50B4-663E-48EF-8130-A59F818D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8ED1-6B4F-488D-BD74-90DA70A7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DecimaWE 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B167-A035-4BEA-B114-F1615DFBDD36}" type="slidenum">
              <a:rPr b="0" lang="it-IT" sz="1200" spc="-1" strike="noStrike">
                <a:solidFill>
                  <a:srgbClr val="000000"/>
                </a:solidFill>
                <a:latin typeface="DecimaWE R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DecimaWE Rg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1" marL="669960" indent="-32544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2" marL="1022400" indent="-35100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3" marL="1339920" indent="-31608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4" marL="1681200" indent="-33984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3828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DecimaWE Rg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1" marL="669960" indent="-32544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2" marL="1022400" indent="-35100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3" marL="1339920" indent="-31608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4" marL="1681200" indent="-33984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DecimaWE 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3FEA-5A22-45DB-9CC8-896C3A20A6FA}" type="slidenum">
              <a:rPr b="0" lang="it-IT" sz="1200" spc="-1" strike="noStrike">
                <a:solidFill>
                  <a:srgbClr val="000000"/>
                </a:solidFill>
                <a:latin typeface="DecimaWE R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90040" y="1052640"/>
            <a:ext cx="78692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CONSULTAZIONE PARTENARIATO AREE INTERNE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PROGRAMMA TRANSFRONTALIERO 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INTERREG ITALIA-AUSTRIA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23/09/2020 Moggio Udinese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85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86" name="Immagine 4" descr="http://www.regione.fvg.it/rafvg/export/sites/default/RAFVG/fondi-europei-fvg-internazionale/POLITICHE_DI_COESIONE_2021-2027/img/politicheDiCoesione2021_2027infografica.png"/>
          <p:cNvPicPr/>
          <p:nvPr/>
        </p:nvPicPr>
        <p:blipFill>
          <a:blip r:embed="rId2"/>
          <a:stretch/>
        </p:blipFill>
        <p:spPr>
          <a:xfrm>
            <a:off x="2987640" y="4292640"/>
            <a:ext cx="338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000" y="83628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GRAZIE PER L’ATTENZIONE! 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DecimaWE Rg"/>
                <a:ea typeface="Arial"/>
              </a:rPr>
              <a:t>Programma Interreg Italia-Austria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DecimaWE Rg"/>
                <a:ea typeface="Arial"/>
              </a:rPr>
              <a:t>Unità di coordinamento regionale per il Friuli Venezia Giulia 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Servizio relazioni internazionali e programmazione europe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Direttore di Servizio: Sandra Sodini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Referenti UCR: Susanna Buiatti - Gabriella Rigoni - Michela Grattoni -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Tiziana Pojani - Lorenzo Rizzello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Buiatti: susanna.buiatt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Rigoni: gabriella.rigo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Grattoni: michela.gratto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Pojani: tiziana.poja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Rizzello: lorenzo.rizzello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UCR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interreg_italia-austria@regione.fvg.it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Sito ufficiale del programma: www.interreg.ne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729480" y="0"/>
            <a:ext cx="2414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UN’IDEA DI BAS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88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89" name="Nuvola 1"/>
          <p:cNvSpPr/>
          <p:nvPr/>
        </p:nvSpPr>
        <p:spPr>
          <a:xfrm>
            <a:off x="755640" y="1450800"/>
            <a:ext cx="7632720" cy="4680000"/>
          </a:xfrm>
          <a:prstGeom prst="pie">
            <a:avLst/>
          </a:prstGeom>
          <a:solidFill>
            <a:srgbClr val="cce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DecimaWE Rg"/>
              </a:rPr>
              <a:t>IL VALORE AGGIUNTO TRANSFRONTALIERO COME CHIAVE DI LETTURA DELLA PROGRAMMAZIONE INTEGRATA</a:t>
            </a: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7"/>
          <p:cNvSpPr/>
          <p:nvPr/>
        </p:nvSpPr>
        <p:spPr>
          <a:xfrm>
            <a:off x="2190600" y="1224000"/>
            <a:ext cx="45342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AREA DI COOPERAZION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50.000 km</a:t>
            </a:r>
            <a:r>
              <a:rPr b="1" lang="it-IT" sz="1800" spc="-1" strike="noStrike" baseline="30000">
                <a:solidFill>
                  <a:srgbClr val="000000"/>
                </a:solidFill>
                <a:latin typeface="DecimaWE Rg"/>
                <a:ea typeface="Arial"/>
              </a:rPr>
              <a:t>2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- 5,5 Mio abitanti                                       5 regioni + 1 provincia - 19 aree NUTS 3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1" name="Picture 46" descr="karte_interreg"/>
          <p:cNvPicPr/>
          <p:nvPr/>
        </p:nvPicPr>
        <p:blipFill>
          <a:blip r:embed="rId1"/>
          <a:stretch/>
        </p:blipFill>
        <p:spPr>
          <a:xfrm>
            <a:off x="2843280" y="2395440"/>
            <a:ext cx="6246720" cy="3780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9"/>
          <p:cNvSpPr/>
          <p:nvPr/>
        </p:nvSpPr>
        <p:spPr>
          <a:xfrm>
            <a:off x="6072120" y="20289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DecimaWE Rg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3" name="Text Box 50"/>
          <p:cNvSpPr/>
          <p:nvPr/>
        </p:nvSpPr>
        <p:spPr>
          <a:xfrm>
            <a:off x="539640" y="2211480"/>
            <a:ext cx="22100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1) Alto Adige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Bolzano         </a:t>
            </a: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2) Veneto</a:t>
            </a:r>
            <a:r>
              <a:rPr b="1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Belluno, Vicenza, Treviso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3) Friuli Venezia Giulia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Pordenone, Udine, Gorizia, Trieste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4) Carinzia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Klagenfurt-Villach, Unterkärnten, Oberkärnten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5) Salisburgo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Lungau, Pinzgau-Pongau, Salzburg und Umgebung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6) Tirolo</a:t>
            </a:r>
            <a:r>
              <a:rPr b="1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 Tiroler Unterland, Innsbruck, Tiroler Oberland, Außerfern, Osttirol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4" name="Immagine 1" descr=""/>
          <p:cNvPicPr/>
          <p:nvPr/>
        </p:nvPicPr>
        <p:blipFill>
          <a:blip r:embed="rId2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7"/>
          <p:cNvSpPr/>
          <p:nvPr/>
        </p:nvSpPr>
        <p:spPr>
          <a:xfrm>
            <a:off x="1908000" y="673200"/>
            <a:ext cx="48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904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7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8" descr=""/>
          <p:cNvPicPr/>
          <p:nvPr/>
        </p:nvPicPr>
        <p:blipFill>
          <a:blip r:embed="rId2"/>
          <a:stretch/>
        </p:blipFill>
        <p:spPr>
          <a:xfrm>
            <a:off x="1042920" y="1576440"/>
            <a:ext cx="5689800" cy="120492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1" descr=""/>
          <p:cNvPicPr/>
          <p:nvPr/>
        </p:nvPicPr>
        <p:blipFill>
          <a:blip r:embed="rId3"/>
          <a:stretch/>
        </p:blipFill>
        <p:spPr>
          <a:xfrm>
            <a:off x="1036800" y="3100320"/>
            <a:ext cx="71355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04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CLLD HEurOpen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Sviluppo regionale a livello locale nell’ambito delle priorità «crescita intelligente», «crescita sostenibile» e «crescita inclusiva»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ree dei GAL Region Hermagor (KAR), GAL Openleader (FVG) e GAL Euroleader (FVG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Bandi a sportello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01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102" name="Immagine 4" descr=""/>
          <p:cNvPicPr/>
          <p:nvPr/>
        </p:nvPicPr>
        <p:blipFill>
          <a:blip r:embed="rId2"/>
          <a:stretch/>
        </p:blipFill>
        <p:spPr>
          <a:xfrm>
            <a:off x="700200" y="5229360"/>
            <a:ext cx="784224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Immagine 1" descr=""/>
          <p:cNvPicPr/>
          <p:nvPr/>
        </p:nvPicPr>
        <p:blipFill>
          <a:blip r:embed="rId3"/>
          <a:stretch/>
        </p:blipFill>
        <p:spPr>
          <a:xfrm>
            <a:off x="711360" y="2725560"/>
            <a:ext cx="78310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0400" y="907560"/>
            <a:ext cx="82296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PERCORSO PROGRAMMATORIO EFFETTUATO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2/10/2019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 Task Forc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istituzione TF 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avvio lavor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in base 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poste di regolamento U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e Border Orientation Paper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BOP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Dicembre 2019-Gennaio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Questionario on lin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stakeholder programma (254 risposte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14/01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I TF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secuzione lavor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in base 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documenti strategici regionali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ntributi questionario on lin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risultati valutazione programma 2014-2020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5/03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cambio interregional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Maggio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nterviste con UCR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vvio lavori Valutazione Ambientale Strategica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VAS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vvio lavori Opzioni di Costo Semplificate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OCS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6/05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II TF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: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ocumenti preparatori «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Analisi territorial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» e «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Risposte strategich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lle principali sfide di sviluppo» +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4 Scenari alternativi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Luglio/Agosto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cambio interregional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 Scenari alternativ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e identificazion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otenziali azioni, progetti e beneficiari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da finanziare nel periodo 21-27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05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155520"/>
            <a:ext cx="4824720" cy="6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STRUTTURA DEL PROGRAMMA</a:t>
            </a:r>
            <a:endParaRPr b="0" lang="en-US" sz="2000" spc="-1" strike="noStrike">
              <a:solidFill>
                <a:srgbClr val="0000ff"/>
              </a:solidFill>
              <a:latin typeface="DecimaWE Rg"/>
            </a:endParaRPr>
          </a:p>
        </p:txBody>
      </p:sp>
      <p:pic>
        <p:nvPicPr>
          <p:cNvPr id="108" name="Segnaposto contenuto 2" descr=""/>
          <p:cNvPicPr/>
          <p:nvPr/>
        </p:nvPicPr>
        <p:blipFill>
          <a:blip r:embed="rId2"/>
          <a:stretch/>
        </p:blipFill>
        <p:spPr>
          <a:xfrm>
            <a:off x="782640" y="907920"/>
            <a:ext cx="7845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PERCORSO PROGRAMMATORIO DA EFFETTUAR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ettembre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Prim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bozza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el programm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9/09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V TF (verrà effettuata la scelta tra i 2 Scenari alternativi : lo scenario A è maggiormente supportato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ettembre-Ottobre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nsultazione stakeholder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programm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Novembre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gramma definitivo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a presentare alla CE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0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TORNANDO ALL’IDEA DI BAS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2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113" name="Nuvola 1"/>
          <p:cNvSpPr/>
          <p:nvPr/>
        </p:nvSpPr>
        <p:spPr>
          <a:xfrm>
            <a:off x="755640" y="1442880"/>
            <a:ext cx="7632720" cy="4680000"/>
          </a:xfrm>
          <a:prstGeom prst="pie">
            <a:avLst/>
          </a:prstGeom>
          <a:solidFill>
            <a:srgbClr val="cce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DecimaWE Rg"/>
              </a:rPr>
              <a:t>IL VALORE AGGIUNTO TRANSFRONTALIERO COME CHIAVE DI LETTURA DELLA PROGRAMMAZIONE INTEGRATA</a:t>
            </a: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6:52:50Z</dcterms:created>
  <dc:creator>Grattoni Michela</dc:creator>
  <dc:description/>
  <dc:language>en-US</dc:language>
  <cp:lastModifiedBy>Grattoni Michela</cp:lastModifiedBy>
  <cp:lastPrinted>2016-12-14T12:42:49Z</cp:lastPrinted>
  <dcterms:modified xsi:type="dcterms:W3CDTF">2020-09-17T15:38:30Z</dcterms:modified>
  <cp:revision>639</cp:revision>
  <dc:subject/>
  <dc:title>Slide Interreg Italia-Austria 2021-2027_21 luglio 2020</dc:title>
</cp:coreProperties>
</file>