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4A1B-DEB5-4799-9AC2-6F024211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88AF-0BD3-45D2-B4BA-CE3FE2F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EEB5-C28D-4260-BCB1-F8B045B8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8A28-DAFE-4F53-B3E0-E939DC1B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84F9-0FD3-45AB-BC6E-FE180BA7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A764-963A-4311-9B7B-C3ACA803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B29A-C924-4EBE-87DE-B4FCB789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A15D-C882-42D5-ACFC-0E9D1425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2D70-0BB2-4192-8940-16AED603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A611-9B5A-4524-81DD-3AD7A682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4A31-428A-411F-85D8-6A78B74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F909-4E96-44F4-8BDA-6B371FF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0EDA-18BB-4095-A2BE-6180E999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D7A-4BDF-426A-A052-3A8A5BD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0805-3392-435C-9709-B29ABFA9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D3F5-5766-4D21-BB85-0A425D0D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449B-857C-4845-9F3C-8D75B307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216A-4D97-48DB-BB71-E0D062A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D958-6977-4A72-A4DE-A64B7725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BA4D-1F19-41D7-AF8F-7C296CE6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47DE-EB6C-4CB1-B073-66AC200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0656-18F1-4ED4-A499-74488F0B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C7A4-099A-4CDC-983B-8C7520A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DC0E-6C25-4A4A-AFBE-8EFD8885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8556-518F-4991-8F3B-E8A73D839CF0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3828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7642-D0B5-4B7E-84E8-C5D0BBC945F4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90040" y="1052640"/>
            <a:ext cx="7869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CONSULTAZIONE PARTENARIATO AREE INTERN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PROGRAMMA TRANSFRONTALIERO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INTERREG ITALIA-AUSTRIA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23/09/2020 Moggio Udines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4" descr="http://www.regione.fvg.it/rafvg/export/sites/default/RAFVG/fondi-europei-fvg-internazionale/POLITICHE_DI_COESIONE_2021-2027/img/politicheDiCoesione2021_2027infografica.png"/>
          <p:cNvPicPr/>
          <p:nvPr/>
        </p:nvPicPr>
        <p:blipFill>
          <a:blip r:embed="rId2"/>
          <a:stretch/>
        </p:blipFill>
        <p:spPr>
          <a:xfrm>
            <a:off x="2987640" y="4292640"/>
            <a:ext cx="338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000" y="836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GRAZIE PER L’ATTENZIONE!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Programma Interreg Italia-Austria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Unità di coordinamento regionale per il Friuli Venezia Giulia 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ervizio relazioni internazionali e programmazione europe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Direttore di Servizio: Sandra Sodin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Referenti UCR: Susanna Buiatti - Gabriella Rigoni - Michela Grattoni -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Tiziana Pojani - Lorenzo Rizz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Buiatti: susanna.buiatt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goni: gabriella.rig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Grattoni: michela.gratt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Pojani: tiziana.poja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zzello: lorenzo.rizzello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UCR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interreg_italia-austria@regione.fvg.it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ito ufficiale del programma: www.interreg.ne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29480" y="0"/>
            <a:ext cx="2414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UN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8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89" name="Nuvola 1"/>
          <p:cNvSpPr/>
          <p:nvPr/>
        </p:nvSpPr>
        <p:spPr>
          <a:xfrm>
            <a:off x="755640" y="145080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7"/>
          <p:cNvSpPr/>
          <p:nvPr/>
        </p:nvSpPr>
        <p:spPr>
          <a:xfrm>
            <a:off x="2190600" y="1224000"/>
            <a:ext cx="453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AREA DI COOPERAZION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50.000 k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DecimaWE Rg"/>
                <a:ea typeface="Arial"/>
              </a:rPr>
              <a:t>2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- 5,5 Mio abitanti                                       5 regioni + 1 provincia - 19 aree NUTS 3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1" name="Picture 46" descr="karte_interreg"/>
          <p:cNvPicPr/>
          <p:nvPr/>
        </p:nvPicPr>
        <p:blipFill>
          <a:blip r:embed="rId1"/>
          <a:stretch/>
        </p:blipFill>
        <p:spPr>
          <a:xfrm>
            <a:off x="2843280" y="2395440"/>
            <a:ext cx="6246720" cy="3780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9"/>
          <p:cNvSpPr/>
          <p:nvPr/>
        </p:nvSpPr>
        <p:spPr>
          <a:xfrm>
            <a:off x="6072120" y="20289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DecimaWE Rg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539640" y="2211480"/>
            <a:ext cx="2210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1) Alto Adige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olzano         </a:t>
            </a: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2) Venet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elluno, Vicenza, Treviso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3) Friuli Venezia Giul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Pordenone, Udine, Gorizia, Trieste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4) Carinz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Klagenfurt-Villach, Unterkärnten, Oberkärnten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5) Salisburgo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Lungau, Pinzgau-Pongau, Salzburg und Umgebung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6) Tirol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 Tiroler Unterland, Innsbruck, Tiroler Oberland, Außerfern, Osttirol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4" name="Immagine 1" descr=""/>
          <p:cNvPicPr/>
          <p:nvPr/>
        </p:nvPicPr>
        <p:blipFill>
          <a:blip r:embed="rId2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7"/>
          <p:cNvSpPr/>
          <p:nvPr/>
        </p:nvSpPr>
        <p:spPr>
          <a:xfrm>
            <a:off x="1908000" y="6732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04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8" descr=""/>
          <p:cNvPicPr/>
          <p:nvPr/>
        </p:nvPicPr>
        <p:blipFill>
          <a:blip r:embed="rId2"/>
          <a:stretch/>
        </p:blipFill>
        <p:spPr>
          <a:xfrm>
            <a:off x="1042920" y="1576440"/>
            <a:ext cx="5689800" cy="120492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1" descr=""/>
          <p:cNvPicPr/>
          <p:nvPr/>
        </p:nvPicPr>
        <p:blipFill>
          <a:blip r:embed="rId3"/>
          <a:stretch/>
        </p:blipFill>
        <p:spPr>
          <a:xfrm>
            <a:off x="1036800" y="3100320"/>
            <a:ext cx="7135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04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CLLD HEurOpen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viluppo regionale a livello locale nell’ambito delle priorità «crescita intelligente», «crescita sostenibile» e «crescita inclusiva»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ei GAL Region Hermagor (KAR), GAL Openleader (FVG) e GAL Euroleader (FVG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Bandi a sport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1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4" descr=""/>
          <p:cNvPicPr/>
          <p:nvPr/>
        </p:nvPicPr>
        <p:blipFill>
          <a:blip r:embed="rId2"/>
          <a:stretch/>
        </p:blipFill>
        <p:spPr>
          <a:xfrm>
            <a:off x="700200" y="5229360"/>
            <a:ext cx="784224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"/>
          <p:cNvPicPr/>
          <p:nvPr/>
        </p:nvPicPr>
        <p:blipFill>
          <a:blip r:embed="rId3"/>
          <a:stretch/>
        </p:blipFill>
        <p:spPr>
          <a:xfrm>
            <a:off x="711360" y="2725560"/>
            <a:ext cx="7831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0400" y="90756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PERCORSO PROGRAMMATORIO EFFETTUATO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2/10/2019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 Task Forc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istituzione TF 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vvio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poste di regolamento U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e Border Orientation Paper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P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icembre 2019-Gennaio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takeholder programma (254 risposte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14/01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 TF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secuzione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ocumenti strategici regional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tributi 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ultati valutazione programma 2014-2020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5/03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Maggi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nterviste con UC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Valutazione Ambientale Strategica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VA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Opzioni di Costo Semplificate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OC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6/05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I TF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: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ocumenti preparatori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nalisi territori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» e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poste strategich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lle principali sfide di sviluppo» +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4 Scenari alternativ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Luglio/Agost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 Scenari alternativ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identificazion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otenziali azioni, progetti e beneficiar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da finanziare nel periodo 21-27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55520"/>
            <a:ext cx="4824720" cy="6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STRUTTURA DEL PROGRAMMA</a:t>
            </a:r>
            <a:endParaRPr b="0" lang="en-US" sz="2000" spc="-1" strike="noStrike">
              <a:solidFill>
                <a:srgbClr val="0000ff"/>
              </a:solidFill>
              <a:latin typeface="DecimaWE Rg"/>
            </a:endParaRPr>
          </a:p>
        </p:txBody>
      </p:sp>
      <p:pic>
        <p:nvPicPr>
          <p:cNvPr id="108" name="Segnaposto contenuto 2" descr=""/>
          <p:cNvPicPr/>
          <p:nvPr/>
        </p:nvPicPr>
        <p:blipFill>
          <a:blip r:embed="rId2"/>
          <a:stretch/>
        </p:blipFill>
        <p:spPr>
          <a:xfrm>
            <a:off x="782640" y="907920"/>
            <a:ext cx="7845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PERCORSO PROGRAMMATORIO DA EFFETTUAR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Prim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zza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el 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9/09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V TF (verrà effettuata la scelta tra i 2 Scenari alternativi : lo scenario A è maggiormente supportato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-Otto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sultazione stakeholde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Novem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gramma definitivo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a presentare alla CE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0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TORNANDO ALL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2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13" name="Nuvola 1"/>
          <p:cNvSpPr/>
          <p:nvPr/>
        </p:nvSpPr>
        <p:spPr>
          <a:xfrm>
            <a:off x="755640" y="144288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6:52:50Z</dcterms:created>
  <dc:creator>Grattoni Michela</dc:creator>
  <dc:description/>
  <dc:language>en-US</dc:language>
  <cp:lastModifiedBy>Grattoni Michela</cp:lastModifiedBy>
  <cp:lastPrinted>2016-12-14T12:42:49Z</cp:lastPrinted>
  <dcterms:modified xsi:type="dcterms:W3CDTF">2020-09-17T15:38:30Z</dcterms:modified>
  <cp:revision>639</cp:revision>
  <dc:subject/>
  <dc:title>Slide Interreg Italia-Austria 2021-2027_21 luglio 2020</dc:title>
</cp:coreProperties>
</file>